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F201-8908-4BE8-AF96-44DD86603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8A09-0D0F-4D26-A07D-299AE7280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796-4721-4EC6-BB92-F50C63F7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77F3-A161-410C-A4D3-2F070C67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D17-8020-4D7E-B5A9-E68030DE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91A-527E-4CE8-868C-9EAAD344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436E-5377-4C8A-9BBA-911D354C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CF1D-B300-4FC3-AAB8-520B2C51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6468-DC29-4E48-B60A-A1ADF951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F054-87AF-417C-A0CA-32BF4643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1CFC-774D-408F-BA21-61471E32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E469-5AED-4D57-B95B-B0D746C5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A40E-4204-4FB5-9CA1-FEF3D1D4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AA1-4221-4562-9926-63860FDB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81AB-AD5E-45C7-B022-39E8D464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0907-EB55-4F89-BB9D-53960219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F841-531D-4294-AD77-421BB0DC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8CEC-8660-410B-B0D0-63FCF13A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2E29-189B-4FF8-A3F9-ABB74632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A8C66-760A-44E1-A0EA-A0ACC96F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C3049-8380-4B1D-A74B-8CA18117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DA256-BD52-48A8-8816-8B0E096E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D5C66-DD47-409B-854E-847AD206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EE3FA-410C-4E16-B3A7-08566C0E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DDE4-0686-4D58-8377-4A44553E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62A5C-A26E-43DC-ABF6-F667F309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42A81-395A-469C-9D31-DCE73D46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9EFC2-63BF-47CE-9057-E94455A4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51B65-3DA4-4CD7-8ED2-5E0D4F04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88F0C-C5AF-46FC-BB99-76DDA84A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54CC3-48DD-4AEA-9BD4-497C78EE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3AD92-FAB4-4ABE-97F3-AD3CFCE8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E630E-A000-4D97-A69B-A05551FB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44E93-C4FB-45BF-A750-880BB9C4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594ED-057C-4A0B-9A31-62591C08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5B9-5D38-40BE-AE66-58C292C9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EAC6D-9571-456E-A324-3AC4B2CB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7C154-2EFD-437D-9028-B7A11CD8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F4427-EF85-48B1-848D-DEC1410B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D06E7-566B-499B-853B-AA553DF0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6F6B2-657C-409F-80AA-65369271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0D2E9-BD53-48D4-A93A-8ABE5BD3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62AF2-3023-44C0-93BD-C7AA2367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8C9C5-8CA4-48D7-AAF9-3A257E0D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E17BE-0791-403D-9338-AED6A3C8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14A-BBF9-4D22-9CBD-867896B4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50E-8089-44FB-B553-CEAA55D2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DB1F-1274-43CA-BC2A-B2B2EB9E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1D1C-6FD9-4120-9288-2A2DAE7C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85C8-525F-4B37-9B63-82151A24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6DB4-D8BD-4032-8F9A-1ACCC1C6DA38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77C2-0EEA-4607-877A-F8659B5F319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7467-A596-401C-95EE-8E51CC797DA1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3102-9ED1-4087-B87E-96184AE887AD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EFE6-C0D4-4ADA-8431-7A608A05472B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148F-3E68-484A-822A-9DBA80041613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FF38-5AA6-4BA6-9B5C-F183829D01EE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C5A3-057B-4281-8042-93DAAC592FC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South Dakota AFNR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Academic Integration Activities: Example #2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opic chosen: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Animal Agriculture – Rights and Welfar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urrent information found in research: livestock overheating in hot weath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nomatopoeia to incorporate: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meow, swish, hiss, quack, croak, wha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6438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ample of student’s writing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Farm and ranching operations in South Dakota paid close attention to the excessive heat wave that blanketed the state. The high temperatures hit livestock with a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wham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! It was important for producers to keep animals cool using misting systems and the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swish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of fans. Livestock owners concerned for the welfare of their animals took extra precautions to avoid the sun’s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sizzle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.”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nswer: The writing sample describes a weather-related welfare condition that affected agriculturists in South Dakota while using the onomatopoeias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wham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swish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and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sizzl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opic chosen: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Agricultural Mechanics and Metal Fabrica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urrent information found in research: annual contest, identify engine parts, sharpen tools, use power too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nomatopoeia to incorporate: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clank, tick tock, zip, honk, clink, hu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560" y="2323800"/>
            <a:ext cx="71866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ample of student’s writing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07680" indent="-2592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FFA offers an Agricultural Mechanics contest each year. Participants in the Career Development Events may be required to identify engine components, sharpen a chisel or use power tools. Students may find causes of the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clink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or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clank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sounds coming from equipment and machines. Depending on knowledge and experience, some FFA members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zip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right through the contest.”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nswer: In this writing sample a student describes the Ag Mechanics CDE event while using the onomatopoeias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clink, clank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, and </a:t>
            </a:r>
            <a:r>
              <a:rPr b="0" i="1" lang="en-US" sz="2000" spc="-1" strike="noStrike">
                <a:solidFill>
                  <a:srgbClr val="3e3d2d"/>
                </a:solidFill>
                <a:latin typeface="Century Gothic"/>
              </a:rPr>
              <a:t>zip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609480" y="1900080"/>
            <a:ext cx="792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Verdana"/>
              </a:rPr>
              <a:t>Leadership and Personal Development students analyze and explain onomatopoeias within their own written text related to current agricultural issues to communicate the effect of such literary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g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eadership and Personal Development, LPD 4.2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mploy public speaking skills to communicate an important agricultural messag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Research current agricultural issues to determine what information needs to be shared with the public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Write a six- to eight-minute speec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cademic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11.R.3.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tudents can analyze and explain literary devices within tex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Recognize literary devices and communicate their effect within text: onomatopoeia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ackground Informa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nomatopoei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iterary device in which a word or expression mimics the sound it represen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Example: the “quack” of a duck or the “meow” of a ca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Examples: buzz, zoom, honk, burp, crunch, moo, hiss, gong, thud, splash, zip, creak, slurp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riters should avoid over-us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920" y="2323800"/>
            <a:ext cx="68817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eaching example: First, randomly assign or have students choose an agricultural topic and set of onomatopoeias from the lists provided; then have students research current ag issues related to that topic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sing 3 of the 6 onomatopoeias, write informational sentences about a current agricultural issu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920" y="2323800"/>
            <a:ext cx="68817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566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idwest Weather Condition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01200" indent="-25632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boom, splash, pitter patter, squish, rumble, rattl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22200" indent="-2566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nimal Agriculture – Rights and Welfar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01200" indent="-25632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eow, swish, hiss, quack, croak, wham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22200" indent="-2566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gricultural Mechanics and Metal Fabricati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01200" indent="-25632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lank, tick tock, zip, honk, clink, hum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22200" indent="-2566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atural Resources Conservation and Managemen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01200" indent="-25632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dash, gasp, ouch, buzz, yahoo, cras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22200" indent="-2566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Food Science and Producti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01200" indent="-25632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runch, snap, swoop, splat, burp, oink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opic chosen: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Midwest Weather Condition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urrent information found in research: summer flooding, heat wave, high temperatures, tornado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nomatopoeia to incorporate: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boom, splash, pitter patter, squish, rumble, rattl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920" y="2323800"/>
            <a:ext cx="7491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484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mbine current issue with onomatopoeia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2120" indent="-2484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ample of student’s writing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582120" indent="-2480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“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he spring and summer of 2011 will be remembered for the tremendous tornadoes and flooding that occurred. </a:t>
            </a: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Boom, rumble, splash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! Midwesterners from several states have grown accustomed to the growl of storms.”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12120" indent="-2484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nswer: This writing sample describes facts about Midwest weather conditions while using the onomatopoeias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rumble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boom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and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splas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 Matzner</cp:lastModifiedBy>
  <dcterms:modified xsi:type="dcterms:W3CDTF">2011-08-04T17:34:39Z</dcterms:modified>
  <cp:revision>82</cp:revision>
  <dc:subject/>
  <dc:title>South Dakota Ag Education</dc:title>
</cp:coreProperties>
</file>